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3.pct" ContentType="image/x-pict"/>
  <Override PartName="/ppt/media/image8.pct" ContentType="image/x-pict"/>
  <Override PartName="/ppt/media/image10.png" ContentType="image/png"/>
  <Override PartName="/ppt/media/image7.pct" ContentType="image/x-pict"/>
  <Override PartName="/ppt/media/image18.png" ContentType="image/png"/>
  <Override PartName="/ppt/media/image17.pct" ContentType="image/x-pict"/>
  <Override PartName="/ppt/media/image14.jpeg" ContentType="image/jpeg"/>
  <Override PartName="/ppt/media/image1.pct" ContentType="image/x-pict"/>
  <Override PartName="/ppt/media/image15.pct" ContentType="image/x-pict"/>
  <Override PartName="/ppt/media/image4.png" ContentType="image/png"/>
  <Override PartName="/ppt/media/image13.jpeg" ContentType="image/jpeg"/>
  <Override PartName="/ppt/media/image2.pct" ContentType="image/x-pict"/>
  <Override PartName="/ppt/media/image5.png" ContentType="image/png"/>
  <Override PartName="/ppt/media/image16.pct" ContentType="image/x-pict"/>
  <Override PartName="/ppt/media/image11.png" ContentType="image/png"/>
  <Override PartName="/ppt/media/image12.jpeg" ContentType="image/jpeg"/>
  <Override PartName="/ppt/media/image6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6858000" cy="5176838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9120" y="689040"/>
            <a:ext cx="456084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294F-A39D-4524-AAB7-7E9887379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9861-7022-40F3-B4AE-CE41053BC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60840" cy="3441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participants’ responses to these essential questions and discuss merits of these compared to participants’ respo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5DFF-E173-40A7-960F-8EC5D9B3C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60840" cy="34416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153-563F-47C7-99EB-1B84CF76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583416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200" y="3118680"/>
            <a:ext cx="583416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991-29B3-4B08-B77C-9C32CD13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120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064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303-7177-4A39-A20D-06481E45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4000" y="149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800" y="149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200" y="311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4000" y="311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800" y="3118680"/>
            <a:ext cx="18784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5F1-02B4-47CF-8491-CE345594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1200" y="1498680"/>
            <a:ext cx="583416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FBF-1B98-41EF-B82B-9C1A94E6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583416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E63-3A53-4B30-BEB5-D7151EAB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35C-C798-42CB-B6B4-6C1B1174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40B-728C-4A0C-AFC7-A8A9C046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1200" y="456840"/>
            <a:ext cx="5834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50D3-59AA-4CF1-B187-F9E34B37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120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E3D-B150-4274-A776-651866F6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0640" y="311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A884-488F-423C-96E7-1CF159C0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120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0640" y="1498680"/>
            <a:ext cx="284688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200" y="3118680"/>
            <a:ext cx="5834160" cy="1479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4E76-3F96-4A86-BF80-EC589651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1200" y="456840"/>
            <a:ext cx="5834160" cy="8636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1200" y="1498680"/>
            <a:ext cx="5834160" cy="310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320" indent="-2192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880920" indent="-17676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122688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57860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5" marL="157860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6" marL="1578600" indent="-174960">
              <a:spcBef>
                <a:spcPts val="624"/>
              </a:spcBef>
              <a:buClr>
                <a:srgbClr val="000000"/>
              </a:buClr>
              <a:buFont typeface="Times New Roman"/>
              <a:buChar char="»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0840" y="4716360"/>
            <a:ext cx="1428840" cy="3412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4320" y="4716360"/>
            <a:ext cx="2166840" cy="3412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6160" y="4716360"/>
            <a:ext cx="1428840" cy="3412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4446-5653-435C-83ED-3612737AC22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28600" y="758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derstanding the               Big Ideas of Sc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85800" y="327348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j0250659"/>
          <p:cNvPicPr/>
          <p:nvPr/>
        </p:nvPicPr>
        <p:blipFill>
          <a:blip r:embed="rId1"/>
          <a:stretch/>
        </p:blipFill>
        <p:spPr>
          <a:xfrm>
            <a:off x="4648320" y="2664000"/>
            <a:ext cx="1523880" cy="1231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Cj03970480000[1]"/>
          <p:cNvPicPr/>
          <p:nvPr/>
        </p:nvPicPr>
        <p:blipFill>
          <a:blip r:embed="rId2"/>
          <a:stretch/>
        </p:blipFill>
        <p:spPr>
          <a:xfrm>
            <a:off x="914400" y="2511360"/>
            <a:ext cx="1481040" cy="1478160"/>
          </a:xfrm>
          <a:prstGeom prst="rect">
            <a:avLst/>
          </a:prstGeom>
          <a:ln w="0">
            <a:noFill/>
          </a:ln>
        </p:spPr>
      </p:pic>
      <p:sp>
        <p:nvSpPr>
          <p:cNvPr id="53" name="Left-Right Arrow 8"/>
          <p:cNvSpPr/>
          <p:nvPr/>
        </p:nvSpPr>
        <p:spPr>
          <a:xfrm rot="10800000">
            <a:off x="2819160" y="2892600"/>
            <a:ext cx="1447560" cy="636480"/>
          </a:xfrm>
          <a:prstGeom prst="leftRightArrow">
            <a:avLst>
              <a:gd name="adj1" fmla="val 50000"/>
              <a:gd name="adj2" fmla="val 5000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21920"/>
            <a:ext cx="5943600" cy="2127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Fish is Fish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                              by                                 Leo Lion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Scan0017"/>
          <p:cNvPicPr/>
          <p:nvPr/>
        </p:nvPicPr>
        <p:blipFill>
          <a:blip r:embed="rId1"/>
          <a:stretch/>
        </p:blipFill>
        <p:spPr>
          <a:xfrm>
            <a:off x="0" y="0"/>
            <a:ext cx="68580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Scan0016"/>
          <p:cNvPicPr/>
          <p:nvPr/>
        </p:nvPicPr>
        <p:blipFill>
          <a:blip r:embed="rId1"/>
          <a:stretch/>
        </p:blipFill>
        <p:spPr>
          <a:xfrm>
            <a:off x="0" y="0"/>
            <a:ext cx="68580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Scan0015"/>
          <p:cNvPicPr/>
          <p:nvPr/>
        </p:nvPicPr>
        <p:blipFill>
          <a:blip r:embed="rId1"/>
          <a:stretch/>
        </p:blipFill>
        <p:spPr>
          <a:xfrm>
            <a:off x="0" y="0"/>
            <a:ext cx="68580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 Reading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758520"/>
            <a:ext cx="6934320" cy="16794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Number off by 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Read Intro on page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along with 3 paragraphs on page 2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MCj03326800000[1]"/>
          <p:cNvPicPr/>
          <p:nvPr/>
        </p:nvPicPr>
        <p:blipFill>
          <a:blip r:embed="rId1"/>
          <a:stretch/>
        </p:blipFill>
        <p:spPr>
          <a:xfrm>
            <a:off x="5410080" y="3583080"/>
            <a:ext cx="129564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04560" y="685800"/>
            <a:ext cx="576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#1 Read: System, Order, and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(pages 2 -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68640" y="61920"/>
            <a:ext cx="6171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ividual Reading Assig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81960" y="1523880"/>
            <a:ext cx="6211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#2 Read: Evidence, Models, and Explan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age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6360" y="2362320"/>
            <a:ext cx="65311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#3 Read: Change, Constancy, and Measur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page 3 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5280" y="3276720"/>
            <a:ext cx="606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#4 Read: Evolution and Equilibrium (pag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80160" y="3962520"/>
            <a:ext cx="4773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5 Read: Form and Function (pag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790560" y="1346040"/>
            <a:ext cx="48290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Summarize key ide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on chart 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3733920" y="1976400"/>
            <a:ext cx="2743200" cy="22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5943600" cy="5175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rafting a Unifying Defini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raft a 10-12 word definition of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your big idea of scienc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at captures the key elemen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Be prepared to share with the whole grou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C:\Documents and Settings\mknuck\Local Settings\Temporary Internet Files\Content.IE5\SL4CNW5K\MCj03511960000[1].wmf"/>
          <p:cNvPicPr/>
          <p:nvPr/>
        </p:nvPicPr>
        <p:blipFill>
          <a:blip r:embed="rId1"/>
          <a:stretch/>
        </p:blipFill>
        <p:spPr>
          <a:xfrm>
            <a:off x="1447920" y="453960"/>
            <a:ext cx="137160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838080" y="758880"/>
            <a:ext cx="54104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Big Ideas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RE Bigger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han Concept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71360" y="114480"/>
          <a:ext cx="6329520" cy="6248160"/>
        </p:xfrm>
        <a:graphic>
          <a:graphicData uri="http://schemas.openxmlformats.org/drawingml/2006/table">
            <a:tbl>
              <a:tblPr/>
              <a:tblGrid>
                <a:gridCol w="173520"/>
                <a:gridCol w="1835640"/>
                <a:gridCol w="1976760"/>
                <a:gridCol w="2343600"/>
              </a:tblGrid>
              <a:tr h="155556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f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rth and Space Scien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8580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5124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55560"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112" name="Group 23"/>
          <p:cNvGrpSpPr/>
          <p:nvPr/>
        </p:nvGrpSpPr>
        <p:grpSpPr>
          <a:xfrm>
            <a:off x="152280" y="2206800"/>
            <a:ext cx="6305760" cy="882360"/>
            <a:chOff x="152280" y="2206800"/>
            <a:chExt cx="6305760" cy="882360"/>
          </a:xfrm>
        </p:grpSpPr>
        <p:grpSp>
          <p:nvGrpSpPr>
            <p:cNvPr id="113" name="Group 35"/>
            <p:cNvGrpSpPr/>
            <p:nvPr/>
          </p:nvGrpSpPr>
          <p:grpSpPr>
            <a:xfrm>
              <a:off x="152280" y="2206800"/>
              <a:ext cx="6305760" cy="882360"/>
              <a:chOff x="152280" y="2206800"/>
              <a:chExt cx="6305760" cy="882360"/>
            </a:xfrm>
          </p:grpSpPr>
          <p:sp>
            <p:nvSpPr>
              <p:cNvPr id="114" name="Rectangle 36"/>
              <p:cNvSpPr/>
              <p:nvPr/>
            </p:nvSpPr>
            <p:spPr>
              <a:xfrm>
                <a:off x="152280" y="2273760"/>
                <a:ext cx="5706360" cy="736920"/>
              </a:xfrm>
              <a:prstGeom prst="rect">
                <a:avLst/>
              </a:pr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AutoShape 37"/>
              <p:cNvSpPr/>
              <p:nvPr/>
            </p:nvSpPr>
            <p:spPr>
              <a:xfrm rot="5400000">
                <a:off x="5687280" y="2318400"/>
                <a:ext cx="882360" cy="658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Text Box 38"/>
            <p:cNvSpPr/>
            <p:nvPr/>
          </p:nvSpPr>
          <p:spPr>
            <a:xfrm>
              <a:off x="456840" y="2435400"/>
              <a:ext cx="5086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0" lang="en-US" sz="1800" spc="-1" strike="noStrike">
                  <a:solidFill>
                    <a:srgbClr val="d9d9d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d9d9d9"/>
                  </a:solidFill>
                  <a:latin typeface="Arial"/>
                </a:rPr>
                <a:t>Inquiry 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152280" y="3121200"/>
            <a:ext cx="6324120" cy="882360"/>
            <a:chOff x="152280" y="3121200"/>
            <a:chExt cx="6324120" cy="882360"/>
          </a:xfrm>
        </p:grpSpPr>
        <p:grpSp>
          <p:nvGrpSpPr>
            <p:cNvPr id="118" name="Group 29"/>
            <p:cNvGrpSpPr/>
            <p:nvPr/>
          </p:nvGrpSpPr>
          <p:grpSpPr>
            <a:xfrm>
              <a:off x="152280" y="3121200"/>
              <a:ext cx="6324120" cy="882360"/>
              <a:chOff x="152280" y="3121200"/>
              <a:chExt cx="6324120" cy="882360"/>
            </a:xfrm>
          </p:grpSpPr>
          <p:sp>
            <p:nvSpPr>
              <p:cNvPr id="119" name="Rectangle 30"/>
              <p:cNvSpPr/>
              <p:nvPr/>
            </p:nvSpPr>
            <p:spPr>
              <a:xfrm>
                <a:off x="152280" y="3188160"/>
                <a:ext cx="5723640" cy="736920"/>
              </a:xfrm>
              <a:prstGeom prst="rect">
                <a:avLst/>
              </a:prstGeom>
              <a:gradFill rotWithShape="0">
                <a:gsLst>
                  <a:gs pos="0">
                    <a:srgbClr val="765e2f"/>
                  </a:gs>
                  <a:gs pos="50000">
                    <a:srgbClr val="ffcc66"/>
                  </a:gs>
                  <a:gs pos="100000">
                    <a:srgbClr val="765e2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31"/>
              <p:cNvSpPr/>
              <p:nvPr/>
            </p:nvSpPr>
            <p:spPr>
              <a:xfrm rot="5400000">
                <a:off x="5704920" y="3232080"/>
                <a:ext cx="882360" cy="6606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765e2f"/>
                  </a:gs>
                  <a:gs pos="50000">
                    <a:srgbClr val="ffcc66"/>
                  </a:gs>
                  <a:gs pos="100000">
                    <a:srgbClr val="765e2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Text Box 39"/>
            <p:cNvSpPr/>
            <p:nvPr/>
          </p:nvSpPr>
          <p:spPr>
            <a:xfrm>
              <a:off x="533160" y="3349800"/>
              <a:ext cx="5086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0" lang="en-US" sz="1800" spc="-1" strike="noStrike">
                  <a:solidFill>
                    <a:srgbClr val="16165d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16165d"/>
                  </a:solidFill>
                  <a:latin typeface="Arial"/>
                </a:rPr>
                <a:t>History and Nature of Sc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21"/>
          <p:cNvGrpSpPr/>
          <p:nvPr/>
        </p:nvGrpSpPr>
        <p:grpSpPr>
          <a:xfrm>
            <a:off x="152280" y="4035600"/>
            <a:ext cx="6324120" cy="914400"/>
            <a:chOff x="152280" y="4035600"/>
            <a:chExt cx="6324120" cy="914400"/>
          </a:xfrm>
        </p:grpSpPr>
        <p:grpSp>
          <p:nvGrpSpPr>
            <p:cNvPr id="123" name="Group 32"/>
            <p:cNvGrpSpPr/>
            <p:nvPr/>
          </p:nvGrpSpPr>
          <p:grpSpPr>
            <a:xfrm>
              <a:off x="152280" y="4035600"/>
              <a:ext cx="6324120" cy="914400"/>
              <a:chOff x="152280" y="4035600"/>
              <a:chExt cx="6324120" cy="914400"/>
            </a:xfrm>
          </p:grpSpPr>
          <p:sp>
            <p:nvSpPr>
              <p:cNvPr id="124" name="Rectangle 33"/>
              <p:cNvSpPr/>
              <p:nvPr/>
            </p:nvSpPr>
            <p:spPr>
              <a:xfrm>
                <a:off x="152280" y="4105080"/>
                <a:ext cx="5723640" cy="763560"/>
              </a:xfrm>
              <a:prstGeom prst="rect">
                <a:avLst/>
              </a:prstGeom>
              <a:gradFill rotWithShape="0">
                <a:gsLst>
                  <a:gs pos="0">
                    <a:srgbClr val="18185e"/>
                  </a:gs>
                  <a:gs pos="50000">
                    <a:srgbClr val="3333cc"/>
                  </a:gs>
                  <a:gs pos="100000">
                    <a:srgbClr val="18185e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AutoShape 34"/>
              <p:cNvSpPr/>
              <p:nvPr/>
            </p:nvSpPr>
            <p:spPr>
              <a:xfrm rot="5400000">
                <a:off x="5688720" y="4162320"/>
                <a:ext cx="914400" cy="6606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8185e"/>
                  </a:gs>
                  <a:gs pos="50000">
                    <a:srgbClr val="3333cc"/>
                  </a:gs>
                  <a:gs pos="100000">
                    <a:srgbClr val="18185e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Text Box 40"/>
            <p:cNvSpPr/>
            <p:nvPr/>
          </p:nvSpPr>
          <p:spPr>
            <a:xfrm>
              <a:off x="533160" y="4264200"/>
              <a:ext cx="5086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ersonal and Social Perspecti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20"/>
          <p:cNvGrpSpPr/>
          <p:nvPr/>
        </p:nvGrpSpPr>
        <p:grpSpPr>
          <a:xfrm>
            <a:off x="152280" y="1292400"/>
            <a:ext cx="6324120" cy="838080"/>
            <a:chOff x="152280" y="1292400"/>
            <a:chExt cx="6324120" cy="838080"/>
          </a:xfrm>
        </p:grpSpPr>
        <p:grpSp>
          <p:nvGrpSpPr>
            <p:cNvPr id="128" name="Group 43"/>
            <p:cNvGrpSpPr/>
            <p:nvPr/>
          </p:nvGrpSpPr>
          <p:grpSpPr>
            <a:xfrm>
              <a:off x="152280" y="1292400"/>
              <a:ext cx="6324120" cy="838080"/>
              <a:chOff x="152280" y="1292400"/>
              <a:chExt cx="6324120" cy="838080"/>
            </a:xfrm>
          </p:grpSpPr>
          <p:sp>
            <p:nvSpPr>
              <p:cNvPr id="129" name="Rectangle 44"/>
              <p:cNvSpPr/>
              <p:nvPr/>
            </p:nvSpPr>
            <p:spPr>
              <a:xfrm>
                <a:off x="152280" y="1356120"/>
                <a:ext cx="5723640" cy="699840"/>
              </a:xfrm>
              <a:prstGeom prst="rect">
                <a:avLst/>
              </a:prstGeom>
              <a:gradFill rotWithShape="0">
                <a:gsLst>
                  <a:gs pos="0">
                    <a:srgbClr val="373737"/>
                  </a:gs>
                  <a:gs pos="50000">
                    <a:srgbClr val="777777"/>
                  </a:gs>
                  <a:gs pos="100000">
                    <a:srgbClr val="37373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AutoShape 45"/>
              <p:cNvSpPr/>
              <p:nvPr/>
            </p:nvSpPr>
            <p:spPr>
              <a:xfrm rot="5400000">
                <a:off x="5726880" y="1380960"/>
                <a:ext cx="838080" cy="6606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777777"/>
                  </a:gs>
                  <a:gs pos="100000">
                    <a:srgbClr val="373737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Rectangle 47"/>
            <p:cNvSpPr/>
            <p:nvPr/>
          </p:nvSpPr>
          <p:spPr>
            <a:xfrm>
              <a:off x="1528920" y="1521000"/>
              <a:ext cx="27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Science and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24"/>
          <p:cNvGrpSpPr/>
          <p:nvPr/>
        </p:nvGrpSpPr>
        <p:grpSpPr>
          <a:xfrm>
            <a:off x="228600" y="1216080"/>
            <a:ext cx="5715000" cy="4343400"/>
            <a:chOff x="228600" y="1216080"/>
            <a:chExt cx="5715000" cy="4343400"/>
          </a:xfrm>
        </p:grpSpPr>
        <p:sp>
          <p:nvSpPr>
            <p:cNvPr id="133" name="AutoShape 48"/>
            <p:cNvSpPr/>
            <p:nvPr/>
          </p:nvSpPr>
          <p:spPr>
            <a:xfrm>
              <a:off x="228600" y="1216080"/>
              <a:ext cx="5715000" cy="4343400"/>
            </a:xfrm>
            <a:prstGeom prst="lightningBolt">
              <a:avLst/>
            </a:prstGeom>
            <a:solidFill>
              <a:srgbClr val="cc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49"/>
            <p:cNvSpPr/>
            <p:nvPr/>
          </p:nvSpPr>
          <p:spPr>
            <a:xfrm rot="2314200">
              <a:off x="1522800" y="2765520"/>
              <a:ext cx="323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</a:rPr>
                <a:t>BIG  IDE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529920"/>
            <a:ext cx="5834160" cy="98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utcomes of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1200" y="1672920"/>
            <a:ext cx="5889600" cy="29271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Big Ideas of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ine how the big ideas impact teaching an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BD04924_"/>
          <p:cNvPicPr/>
          <p:nvPr/>
        </p:nvPicPr>
        <p:blipFill>
          <a:blip r:embed="rId1"/>
          <a:stretch/>
        </p:blipFill>
        <p:spPr>
          <a:xfrm rot="1053000">
            <a:off x="5562360" y="377640"/>
            <a:ext cx="1136520" cy="11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5299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Idea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1200" y="1521000"/>
            <a:ext cx="5889600" cy="3079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 science topic is taught is more important than the topic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ing concepts in science is more than learning fa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 flipH="1" rot="10800000">
            <a:off x="379440" y="149040"/>
            <a:ext cx="125748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905120" y="149400"/>
            <a:ext cx="4610160" cy="2895480"/>
          </a:xfrm>
          <a:prstGeom prst="downArrowCallout">
            <a:avLst>
              <a:gd name="adj1" fmla="val 42256"/>
              <a:gd name="adj2" fmla="val 45834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important scientific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5299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1200" y="1444320"/>
            <a:ext cx="5889600" cy="3352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eaching students to only name the parts of a plant teaching to a big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ould you structure instruction on plants so that you are teaching to a big idea or ide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11200" y="1368360"/>
            <a:ext cx="5889600" cy="3232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Big Ideas of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these ideas support the the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re science and mathematics connec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BD04924_"/>
          <p:cNvPicPr/>
          <p:nvPr/>
        </p:nvPicPr>
        <p:blipFill>
          <a:blip r:embed="rId1"/>
          <a:stretch/>
        </p:blipFill>
        <p:spPr>
          <a:xfrm rot="1053000">
            <a:off x="5714640" y="529920"/>
            <a:ext cx="981000" cy="9907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517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Question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 flipH="1" rot="10800000">
            <a:off x="379440" y="149040"/>
            <a:ext cx="125748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1905120" y="225360"/>
            <a:ext cx="4610160" cy="2514600"/>
          </a:xfrm>
          <a:prstGeom prst="downArrowCallout">
            <a:avLst>
              <a:gd name="adj1" fmla="val 42256"/>
              <a:gd name="adj2" fmla="val 45834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important scientific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1905120" y="2816280"/>
            <a:ext cx="4610160" cy="2206440"/>
          </a:xfrm>
          <a:prstGeom prst="downArrowCallout">
            <a:avLst>
              <a:gd name="adj1" fmla="val 48158"/>
              <a:gd name="adj2" fmla="val 52235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T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theme and big idea. They should mutually inform one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5299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2320"/>
            <a:ext cx="5889600" cy="33530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 of your choice of a big idea to teach, what theme might be appropri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a theme at your table to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11200" y="1368360"/>
            <a:ext cx="5889600" cy="3232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Big Ideas of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these ideas support the the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re science and mathematics connec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BD04924_"/>
          <p:cNvPicPr/>
          <p:nvPr/>
        </p:nvPicPr>
        <p:blipFill>
          <a:blip r:embed="rId1"/>
          <a:stretch/>
        </p:blipFill>
        <p:spPr>
          <a:xfrm rot="1053000">
            <a:off x="5714640" y="529920"/>
            <a:ext cx="981000" cy="9907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517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Question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indefinite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indefinite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 flipH="1" rot="10800000">
            <a:off x="379440" y="149040"/>
            <a:ext cx="125748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1905120" y="149400"/>
            <a:ext cx="4610160" cy="1828800"/>
          </a:xfrm>
          <a:prstGeom prst="downArrowCallout">
            <a:avLst>
              <a:gd name="adj1" fmla="val 58102"/>
              <a:gd name="adj2" fmla="val 63022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dentify Big Idea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ant scientific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1828800" y="2054160"/>
            <a:ext cx="4610160" cy="1524240"/>
          </a:xfrm>
          <a:prstGeom prst="downArrowCallout">
            <a:avLst>
              <a:gd name="adj1" fmla="val 69711"/>
              <a:gd name="adj2" fmla="val 75614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dentify T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loring theme and big idea from science should mutually inform one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828800" y="3654360"/>
            <a:ext cx="4610160" cy="14032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nect Mathematics and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 flipH="1" rot="10800000">
            <a:off x="227160" y="149040"/>
            <a:ext cx="1104840" cy="4870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523880" y="149400"/>
            <a:ext cx="5105520" cy="4876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nect Mathematics                           and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Select an application of a mathematical concept that can be integrated into this science learning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Content must be important to the study of math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Examples: estimation, number sense, operations, fractions and decimals, geometry, measurement, data analysis, statistics, probability, patterns, functions, and 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378000"/>
            <a:ext cx="5791320" cy="76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68000"/>
            <a:ext cx="5889600" cy="3654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your choice of a big idea and theme to teach, what might be a powerful connection to mathematic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a mathematics focus at your table to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" descr="BD04924_"/>
          <p:cNvPicPr/>
          <p:nvPr/>
        </p:nvPicPr>
        <p:blipFill>
          <a:blip r:embed="rId1"/>
          <a:stretch/>
        </p:blipFill>
        <p:spPr>
          <a:xfrm rot="1053000">
            <a:off x="5382720" y="220680"/>
            <a:ext cx="1282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2120" y="1521000"/>
            <a:ext cx="5867280" cy="76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re the Big Ideas of Sci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BD04924_"/>
          <p:cNvPicPr/>
          <p:nvPr/>
        </p:nvPicPr>
        <p:blipFill>
          <a:blip r:embed="rId1"/>
          <a:stretch/>
        </p:blipFill>
        <p:spPr>
          <a:xfrm rot="1053000">
            <a:off x="5749560" y="655200"/>
            <a:ext cx="981000" cy="990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6095880" cy="98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y Question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066680" y="3578400"/>
            <a:ext cx="487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these id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he the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152280" y="235908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science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s conne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BD04924_"/>
          <p:cNvPicPr/>
          <p:nvPr/>
        </p:nvPicPr>
        <p:blipFill>
          <a:blip r:embed="rId2"/>
          <a:stretch/>
        </p:blipFill>
        <p:spPr>
          <a:xfrm rot="19207200">
            <a:off x="50760" y="634680"/>
            <a:ext cx="981000" cy="99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7800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4400" spc="-1" strike="noStrike">
                <a:solidFill>
                  <a:srgbClr val="262699"/>
                </a:solidFill>
                <a:latin typeface="Tahoma"/>
              </a:rPr>
              <a:t>Synthesizing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Diagram 5" descr=""/>
          <p:cNvPicPr/>
          <p:nvPr/>
        </p:nvPicPr>
        <p:blipFill>
          <a:blip r:embed="rId1"/>
          <a:stretch/>
        </p:blipFill>
        <p:spPr>
          <a:xfrm>
            <a:off x="907920" y="1359000"/>
            <a:ext cx="48103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529920"/>
            <a:ext cx="5834160" cy="987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utcomes of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1200" y="1672920"/>
            <a:ext cx="5889600" cy="29271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Big Ideas of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ine how the big ideas impact teaching an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BD04924_"/>
          <p:cNvPicPr/>
          <p:nvPr/>
        </p:nvPicPr>
        <p:blipFill>
          <a:blip r:embed="rId1"/>
          <a:stretch/>
        </p:blipFill>
        <p:spPr>
          <a:xfrm rot="1053000">
            <a:off x="5562360" y="377640"/>
            <a:ext cx="113652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4"/>
          <p:cNvGrpSpPr/>
          <p:nvPr/>
        </p:nvGrpSpPr>
        <p:grpSpPr>
          <a:xfrm>
            <a:off x="4724280" y="3197160"/>
            <a:ext cx="1752480" cy="1523880"/>
            <a:chOff x="4724280" y="3197160"/>
            <a:chExt cx="1752480" cy="1523880"/>
          </a:xfrm>
        </p:grpSpPr>
        <p:sp>
          <p:nvSpPr>
            <p:cNvPr id="178" name="Freeform 5"/>
            <p:cNvSpPr/>
            <p:nvPr/>
          </p:nvSpPr>
          <p:spPr>
            <a:xfrm>
              <a:off x="5249520" y="3472560"/>
              <a:ext cx="708120" cy="97704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6"/>
            <p:cNvSpPr/>
            <p:nvPr/>
          </p:nvSpPr>
          <p:spPr>
            <a:xfrm>
              <a:off x="5289120" y="3512160"/>
              <a:ext cx="629280" cy="6832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7"/>
            <p:cNvSpPr/>
            <p:nvPr/>
          </p:nvSpPr>
          <p:spPr>
            <a:xfrm>
              <a:off x="5518800" y="4245840"/>
              <a:ext cx="201600" cy="1558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8"/>
            <p:cNvSpPr/>
            <p:nvPr/>
          </p:nvSpPr>
          <p:spPr>
            <a:xfrm>
              <a:off x="4724280" y="3197160"/>
              <a:ext cx="1752480" cy="15238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9"/>
            <p:cNvSpPr/>
            <p:nvPr/>
          </p:nvSpPr>
          <p:spPr>
            <a:xfrm>
              <a:off x="4773960" y="3222360"/>
              <a:ext cx="1658880" cy="14630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WordArt 11"/>
          <p:cNvSpPr txBox="1"/>
          <p:nvPr/>
        </p:nvSpPr>
        <p:spPr>
          <a:xfrm>
            <a:off x="838080" y="987480"/>
            <a:ext cx="5257800" cy="30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ahoma"/>
              </a:rPr>
              <a:t>QUESTIONS</a:t>
            </a:r>
            <a:endParaRPr b="1" i="1" lang="en-US" sz="40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ahoma"/>
              <a:ea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7120080" cy="517536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7175520" cy="933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0" y="2438280"/>
            <a:ext cx="70866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at questions could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nvestigated about the box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80880" y="3505320"/>
            <a:ext cx="6477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at is your plan for investig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57200" y="4114800"/>
            <a:ext cx="640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at data do you need to coll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940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mall Group Process:              Understanding the                  Big Ideas of Sc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130120"/>
            <a:ext cx="6248160" cy="24699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How do students learn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How would you describe a classroom where students are actively engaged in learning sci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MCBS00297_0000[1]"/>
          <p:cNvPicPr/>
          <p:nvPr/>
        </p:nvPicPr>
        <p:blipFill>
          <a:blip r:embed="rId1"/>
          <a:stretch/>
        </p:blipFill>
        <p:spPr>
          <a:xfrm flipH="1">
            <a:off x="5486400" y="3882960"/>
            <a:ext cx="13716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328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cience Classro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5"/>
          <p:cNvSpPr/>
          <p:nvPr/>
        </p:nvSpPr>
        <p:spPr>
          <a:xfrm>
            <a:off x="685800" y="1139760"/>
            <a:ext cx="17049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  </a:t>
            </a: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Look Li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590920" y="1139760"/>
            <a:ext cx="16952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Sound Li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4495680" y="1139760"/>
            <a:ext cx="17240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33"/>
                </a:solidFill>
                <a:latin typeface="Comic Sans MS"/>
              </a:rPr>
              <a:t>Feel Li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596960"/>
          <a:ext cx="5429160" cy="312444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</a:tblGrid>
              <a:tr h="6256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2" descr="C:\Documents and Settings\mknuck\Local Settings\Temporary Internet Files\Content.IE5\VFWXN81O\MCj04136180000[1].wmf"/>
          <p:cNvPicPr/>
          <p:nvPr/>
        </p:nvPicPr>
        <p:blipFill>
          <a:blip r:embed="rId1"/>
          <a:stretch/>
        </p:blipFill>
        <p:spPr>
          <a:xfrm>
            <a:off x="152280" y="149400"/>
            <a:ext cx="1238400" cy="95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knuck\Local Settings\Temporary Internet Files\Content.IE5\VFWXN81O\MCj02381920000[1].wmf"/>
          <p:cNvPicPr/>
          <p:nvPr/>
        </p:nvPicPr>
        <p:blipFill>
          <a:blip r:embed="rId2"/>
          <a:stretch/>
        </p:blipFill>
        <p:spPr>
          <a:xfrm>
            <a:off x="5867280" y="149400"/>
            <a:ext cx="722520" cy="110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240" y="37800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720" bIns="36720" anchor="t">
            <a:normAutofit fontScale="94000"/>
          </a:bodyPr>
          <a:p>
            <a:pPr marL="256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udents learn science by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inquir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asking ques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developing mode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seeking and describing eviden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lnSpc>
                <a:spcPct val="100000"/>
              </a:lnSpc>
              <a:spcBef>
                <a:spcPts val="850"/>
              </a:spcBef>
              <a:buClr>
                <a:srgbClr val="990000"/>
              </a:buClr>
              <a:buFont typeface="Tahoma"/>
              <a:buChar char="•"/>
              <a:tabLst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Tahoma"/>
              </a:rPr>
              <a:t>developing scientific argu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4950000"/>
            <a:ext cx="6858000" cy="225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0"/>
            <a:ext cx="6858000" cy="225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MPj03988190000[1]"/>
          <p:cNvPicPr/>
          <p:nvPr/>
        </p:nvPicPr>
        <p:blipFill>
          <a:blip r:embed="rId1"/>
          <a:stretch/>
        </p:blipFill>
        <p:spPr>
          <a:xfrm>
            <a:off x="4800600" y="1216080"/>
            <a:ext cx="12952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457200" y="4083120"/>
            <a:ext cx="6114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books.nap.edu/catalog/9853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nap.edu/books/0309089492/htm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How Students Learn Mathematics"/>
          <p:cNvPicPr/>
          <p:nvPr/>
        </p:nvPicPr>
        <p:blipFill>
          <a:blip r:embed="rId1"/>
          <a:stretch/>
        </p:blipFill>
        <p:spPr>
          <a:xfrm>
            <a:off x="4229280" y="1552680"/>
            <a:ext cx="1517400" cy="2184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ow People Learn"/>
          <p:cNvPicPr/>
          <p:nvPr/>
        </p:nvPicPr>
        <p:blipFill>
          <a:blip r:embed="rId2"/>
          <a:stretch/>
        </p:blipFill>
        <p:spPr>
          <a:xfrm>
            <a:off x="1200240" y="1552680"/>
            <a:ext cx="1560600" cy="2184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571680" y="230040"/>
            <a:ext cx="6286320" cy="10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3300" spc="-1" strike="noStrike">
                <a:solidFill>
                  <a:srgbClr val="990000"/>
                </a:solidFill>
                <a:latin typeface="Arial"/>
              </a:rPr>
              <a:t>We Know More About How        Students Lear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28560" y="574560"/>
            <a:ext cx="622944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en-US" sz="27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Three Principles of Lear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80880" y="1444680"/>
            <a:ext cx="615312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Principle #1:  Teachers must Engage Students Preconcep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Principle #2: Understanding Requires Factual  Knowledge and Conceptual Framework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Principle #3: Meta-cognitive Approach Enables Student Self-Monitor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4:43:28Z</dcterms:created>
  <dc:creator>Mary Knuck</dc:creator>
  <dc:description/>
  <dc:language>en-US</dc:language>
  <cp:lastModifiedBy>acs Stafford</cp:lastModifiedBy>
  <dcterms:modified xsi:type="dcterms:W3CDTF">2009-05-17T21:56:51Z</dcterms:modified>
  <cp:revision>96</cp:revision>
  <dc:subject/>
  <dc:title>PowerPoint Presentation</dc:title>
</cp:coreProperties>
</file>